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39A7-7C04-42B3-AFFF-71A63EFC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194C-18BB-4EED-8373-868E3756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ACF8-370F-45BB-A76B-9F56B48E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742D-A0E8-49D4-815E-B30AC475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5574-1BC2-4308-B452-0E6B9E78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D094-AB50-4F99-AA9D-9E7A326D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2902-C958-43EB-B51E-CF769F2D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6171-88A3-44A4-8490-D5E60D19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FA1C-2A17-4646-A06F-C81B6E6A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C705-F221-4AB9-BCCB-72607A01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8CAD-86D0-4475-850B-4BB9F314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724B-E5E5-4104-8B7E-4EBF0732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A552-B0E6-4EC8-899B-F0332347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0F8C-6B10-488B-A93C-0953738C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2CDC-7EFB-48B5-900A-7E652636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5677-FCEC-41BF-9F2B-296A7E5E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692F-1BEA-4BCF-89D1-92D8F502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4E34-6B66-43AA-9919-E96C059F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925E-47F0-48A2-924E-3E79362A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A5EA-868E-48C0-8A17-F3B66FDC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CBB3-767F-4D6E-B8BF-21C6431F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7F5B-D8F8-43EC-A318-3F12E910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4E18-3F66-44CE-9705-AD9552EA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0FCA-A06F-44F5-BB15-C26C4903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DF98-E742-423B-8508-8DD53263E4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B9CE-2857-4B87-8F1D-CD5599917E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: hoard :: ______ : 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tle : amphibian :: _______ : mam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sh : school :: _______ : 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 : bear :: calf : cow. What is the relationshi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 : change :: ________ : sc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llar : currency :: ________ : fl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__: _______ : : ______ : ______. Write your own DOA, explain what the relationship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A  correct answ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: hoard :: criticize : compl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tle : amphibian : : human : mam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sh : school :: sheep : flo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 : bear :: calf : cow. What is the relationshi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 is a baby bear, calf is a baby co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 : change :: climb : sc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llar : currency :: rose : fl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__: _______ : : ______ : ______. Write your own DOA, explain what the relationship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O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o City as well as other large citis of the world are growing to quickly for its citizens to set back and do nothing to remedy the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of the worlds largest citys are facing problems garbage and sewage is hard to remove and food or water are often in short sup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body who has had hypothermia know that speech and coordination is usually effected by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of the books that is laying on the table is suppose to learn you some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ad lead me to a quiete meadow and I lied down and rested there without knowing to who the field belon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L correct answ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xico City, as well as other large cities of the world, is growing too quickly for its citizens to sit back and do nothing to remedy the proble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f the world’s largest cities is facing problems: garbage and sewage are hard to remove, and food or water is often in short supp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body who has had hypothermia knows that speech and coordination are usually affected by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f the books that are lying on the table is supposed to teach you somet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oad led me to a quiet meadow, and I lay down and rested there without knowing to whom the field belong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ocused Freewrit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you are a married adult and your spouse has gotten the job of their dreams. The only problem is that you will have to move overseas. S/he accepted this job without even discussing it with you. What would you do, say, f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/15 min today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ocabulary Review 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correct or incorrect for the follow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esident of the U.S. is a despotic rul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oney you pay for a car is tui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robber might have a cach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oud, boisterous student was reser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incipal commended the student by giving him a deten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ur won best in show at the dog judg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was so happy to see my grandma that I had a dispute with her right awa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was so lonely in class because a multitude of people were gone due to illne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urch had a beautiful, golden por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tudents were out of breath and jogging at a nice stro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xercise 2-Match the word to its synonym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o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or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r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w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isurely 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rann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xercise 3-Write the correct word that would go in the blank.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as a _______ of people running around the sch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book the robber had a _______ of diamo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d a _______ teacher our first year of colle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ase ________ from talking so mu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crete ________ was supposed to be strong enough to handle an earthqua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____ wouldn’t hunt, so the owner put him to slee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felt sorry for the _______ stu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iminal’s _______ was completely different than the victim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didn’t _______ that my mom was in a bad m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ip was flying a _______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21:07:18Z</dcterms:created>
  <dc:creator>rebecca</dc:creator>
  <dc:description/>
  <dc:language>en-US</dc:language>
  <cp:lastModifiedBy>rebecca</cp:lastModifiedBy>
  <dcterms:modified xsi:type="dcterms:W3CDTF">2009-01-09T19:51:37Z</dcterms:modified>
  <cp:revision>4</cp:revision>
  <dc:subject/>
  <dc:title>DOA </dc:title>
</cp:coreProperties>
</file>